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304920"/>
            <a:ext cx="8972280" cy="997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85680" y="6400800"/>
            <a:ext cx="8972640" cy="745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30960" bIns="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467480" y="6453360"/>
            <a:ext cx="1441440" cy="353160"/>
            <a:chOff x="7467480" y="6453360"/>
            <a:chExt cx="1441440" cy="353160"/>
          </a:xfrm>
        </p:grpSpPr>
        <p:sp>
          <p:nvSpPr>
            <p:cNvPr id="3" name=""/>
            <p:cNvSpPr txBox="1"/>
            <p:nvPr/>
          </p:nvSpPr>
          <p:spPr>
            <a:xfrm rot="5400000">
              <a:off x="7472520" y="6542640"/>
              <a:ext cx="242640" cy="63720"/>
            </a:xfrm>
            <a:prstGeom prst="rect">
              <a:avLst/>
            </a:prstGeom>
          </p:spPr>
          <p:txBody>
            <a:bodyPr wrap="none" lIns="90000" rIns="90000" tIns="17280" bIns="17280" anchor="ctr" anchorCtr="1" vert="eaVert">
              <a:prstTxWarp prst="textPlain">
                <a:avLst>
                  <a:gd name="adj" fmla="val 478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1" strike="noStrike">
                  <a:ln w="0">
                    <a:noFill/>
                  </a:ln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en-US" sz="5400" spc="1" strike="noStrike">
                  <a:ln w="0">
                    <a:noFill/>
                  </a:ln>
                  <a:solidFill>
                    <a:srgbClr val="000000"/>
                  </a:solidFill>
                  <a:latin typeface="Bookman Old Style"/>
                </a:rPr>
                <a:t>i</a:t>
              </a:r>
              <a:endParaRPr b="1" i="1" lang="en-US" sz="5400" spc="1" strike="noStrike">
                <a:ln w="0">
                  <a:noFill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7467480" y="6508800"/>
              <a:ext cx="260280" cy="253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600" spc="1" strike="noStrike">
                  <a:ln w="0">
                    <a:noFill/>
                  </a:ln>
                  <a:solidFill>
                    <a:srgbClr val="000000"/>
                  </a:solidFill>
                  <a:latin typeface="바탕"/>
                </a:rPr>
                <a:t>c</a:t>
              </a:r>
              <a:endParaRPr b="1" i="1" lang="en-US" sz="6600" spc="1" strike="noStrike">
                <a:ln w="0">
                  <a:noFill/>
                </a:ln>
                <a:solidFill>
                  <a:srgbClr val="000000"/>
                </a:solidFill>
                <a:latin typeface="바탕"/>
                <a:ea typeface="바탕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21531600">
              <a:off x="7624080" y="6589440"/>
              <a:ext cx="287280" cy="97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4542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1" strike="noStrike">
                  <a:ln w="0">
                    <a:noFill/>
                  </a:ln>
                  <a:solidFill>
                    <a:srgbClr val="000000"/>
                  </a:solidFill>
                  <a:latin typeface="Bookman Old Style"/>
                </a:rPr>
                <a:t>Com</a:t>
              </a:r>
              <a:endParaRPr b="1" i="1" lang="en-US" sz="4400" spc="1" strike="noStrike">
                <a:ln w="0">
                  <a:noFill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81600" y="6521400"/>
              <a:ext cx="5400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537320" y="6651720"/>
              <a:ext cx="5284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굴림"/>
                </a:rPr>
                <a:t>I C o m i s</a:t>
              </a:r>
              <a:endParaRPr b="0" lang="en-US" sz="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9845000">
              <a:off x="7565760" y="6513120"/>
              <a:ext cx="7632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26160" y="6505560"/>
              <a:ext cx="160200" cy="8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9845000">
              <a:off x="7562520" y="6514560"/>
              <a:ext cx="7632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 txBox="1"/>
            <p:nvPr/>
          </p:nvSpPr>
          <p:spPr>
            <a:xfrm>
              <a:off x="7945200" y="6567480"/>
              <a:ext cx="963720" cy="15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돋움체"/>
                </a:rPr>
                <a:t>아이콤정보시스템</a:t>
              </a:r>
              <a:endPara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돋움체"/>
                <a:ea typeface="돋움체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609480"/>
            <a:ext cx="8153280" cy="5639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ff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447920"/>
            <a:ext cx="6629400" cy="533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15238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PDF-417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바코드를 활용한 자료 및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APE(CD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관리 시스템 구축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로고1" descr=""/>
          <p:cNvPicPr/>
          <p:nvPr/>
        </p:nvPicPr>
        <p:blipFill>
          <a:blip r:embed="rId1"/>
          <a:stretch/>
        </p:blipFill>
        <p:spPr>
          <a:xfrm>
            <a:off x="3124080" y="5124600"/>
            <a:ext cx="914400" cy="4935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038480" y="5321160"/>
            <a:ext cx="2286000" cy="396000"/>
            <a:chOff x="4038480" y="5321160"/>
            <a:chExt cx="2286000" cy="396000"/>
          </a:xfrm>
        </p:grpSpPr>
        <p:sp>
          <p:nvSpPr>
            <p:cNvPr id="53" name=""/>
            <p:cNvSpPr/>
            <p:nvPr/>
          </p:nvSpPr>
          <p:spPr>
            <a:xfrm>
              <a:off x="4038480" y="5516640"/>
              <a:ext cx="2286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Book Antiqua"/>
                  <a:ea typeface="신그래픽"/>
                </a:rPr>
                <a:t>TEL:02) 861-1175  , FAX:02) 861-1176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095720" y="5321160"/>
              <a:ext cx="1523880" cy="1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돋움체"/>
                </a:rPr>
                <a:t>아이콤정보시스템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돋움체"/>
                <a:ea typeface="돋움체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657600" y="2286000"/>
            <a:ext cx="342900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***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목   차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***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운용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FLOW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시스템 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11448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PDF-417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바코드를 활용한 자료 및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TAPE(CD)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리 시스템 구축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609480"/>
            <a:ext cx="8153280" cy="5639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ff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952880"/>
            <a:ext cx="1003320" cy="495360"/>
          </a:xfrm>
          <a:prstGeom prst="cube">
            <a:avLst>
              <a:gd name="adj" fmla="val 122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762120"/>
            <a:ext cx="822960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     ▶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 및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APE, C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 내용을 한번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Reading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으로 쉽게 파악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▶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많은 정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바코드화하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율적인 관리가 용이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영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숫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Image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바코드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▶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Barcode Reading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시 현장에서 즉각 정보를 알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▶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DF-417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드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il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바코드임                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73392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※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적용분야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방송국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유선방송국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인터넷 방송국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고객관리 업체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812880" y="4191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운용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FLOW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49160" y="501660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바코드화 할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데이터 입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54482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955880" y="546084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바코드 전용프린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524560" y="54482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바코드 스캐너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혹은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188120" y="543564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S/W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패키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5029200"/>
            <a:ext cx="381240" cy="304920"/>
          </a:xfrm>
          <a:prstGeom prst="rightArrow">
            <a:avLst>
              <a:gd name="adj1" fmla="val 41667"/>
              <a:gd name="adj2" fmla="val 40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029200"/>
            <a:ext cx="380880" cy="304920"/>
          </a:xfrm>
          <a:prstGeom prst="rightArrow">
            <a:avLst>
              <a:gd name="adj1" fmla="val 41667"/>
              <a:gd name="adj2" fmla="val 40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35240" y="4952880"/>
            <a:ext cx="1041480" cy="495360"/>
          </a:xfrm>
          <a:prstGeom prst="cube">
            <a:avLst>
              <a:gd name="adj" fmla="val 122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73400" y="50292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DF-417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바코드 인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4927680"/>
            <a:ext cx="1028520" cy="495360"/>
          </a:xfrm>
          <a:prstGeom prst="cube">
            <a:avLst>
              <a:gd name="adj" fmla="val 122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4927680"/>
            <a:ext cx="1066680" cy="495360"/>
          </a:xfrm>
          <a:prstGeom prst="cube">
            <a:avLst>
              <a:gd name="adj" fmla="val 122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927680"/>
            <a:ext cx="1067040" cy="495360"/>
          </a:xfrm>
          <a:prstGeom prst="cube">
            <a:avLst>
              <a:gd name="adj" fmla="val 122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5029200"/>
            <a:ext cx="381240" cy="304920"/>
          </a:xfrm>
          <a:prstGeom prst="rightArrow">
            <a:avLst>
              <a:gd name="adj1" fmla="val 41667"/>
              <a:gd name="adj2" fmla="val 40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5029200"/>
            <a:ext cx="380880" cy="304920"/>
          </a:xfrm>
          <a:prstGeom prst="rightArrow">
            <a:avLst>
              <a:gd name="adj1" fmla="val 41667"/>
              <a:gd name="adj2" fmla="val 401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924360" y="5016600"/>
            <a:ext cx="97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자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TAP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D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측면 부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4991040"/>
            <a:ext cx="110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D BARCO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A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7175520" y="499104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C,PDA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화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SPLAY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후 확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PDF417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3048120" cy="933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410080" y="11448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PDF-417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바코드를 활용한 자료 및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TAPE(CD)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리 시스템 구축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533520"/>
            <a:ext cx="8686800" cy="572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bmp" descr=""/>
          <p:cNvPicPr/>
          <p:nvPr/>
        </p:nvPicPr>
        <p:blipFill>
          <a:blip r:embed="rId1"/>
          <a:stretch/>
        </p:blipFill>
        <p:spPr>
          <a:xfrm>
            <a:off x="1295280" y="847800"/>
            <a:ext cx="632484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6094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시스템 구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11448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PDF-417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바코드를 활용한 자료 및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TAPE(CD)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리 시스템 구축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6T03:38:50Z</dcterms:created>
  <dc:creator>싸가지</dc:creator>
  <dc:description/>
  <dc:language>en-US</dc:language>
  <cp:lastModifiedBy>강성철</cp:lastModifiedBy>
  <cp:lastPrinted>2000-08-26T17:39:49Z</cp:lastPrinted>
  <dcterms:modified xsi:type="dcterms:W3CDTF">2000-08-26T17:40:43Z</dcterms:modified>
  <cp:revision>6</cp:revision>
  <dc:subject/>
  <dc:title>PowerPoint 프레젠테이션</dc:title>
</cp:coreProperties>
</file>