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457200"/>
            <a:ext cx="9524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3120" y="6629400"/>
            <a:ext cx="952524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45200" y="6605640"/>
            <a:ext cx="4279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300" spc="-1" strike="noStrike">
                <a:solidFill>
                  <a:srgbClr val="000000"/>
                </a:solidFill>
                <a:latin typeface="Times New Roman"/>
                <a:ea typeface="돋움"/>
              </a:rPr>
              <a:t>                                         </a:t>
            </a:r>
            <a:r>
              <a:rPr b="0" i="1" lang="ko-KR" sz="1300" spc="-1" strike="noStrike">
                <a:solidFill>
                  <a:srgbClr val="000000"/>
                </a:solidFill>
                <a:latin typeface="Times New Roman"/>
                <a:ea typeface="돋움"/>
              </a:rPr>
              <a:t>ICom Information System Co., Lt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825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돋움체"/>
              </a:rPr>
              <a:t>아파트 차량 관린 시스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9040" y="276120"/>
            <a:ext cx="76320" cy="76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8153280" cy="563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ff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447920"/>
            <a:ext cx="6629400" cy="533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15685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PDF-417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바코드를 이용 아파트차량관리 시스템 구축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로고1" descr=""/>
          <p:cNvPicPr/>
          <p:nvPr/>
        </p:nvPicPr>
        <p:blipFill>
          <a:blip r:embed="rId1"/>
          <a:stretch/>
        </p:blipFill>
        <p:spPr>
          <a:xfrm>
            <a:off x="3352680" y="5124600"/>
            <a:ext cx="914400" cy="493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267080" y="5321160"/>
            <a:ext cx="2286000" cy="396000"/>
            <a:chOff x="4267080" y="5321160"/>
            <a:chExt cx="2286000" cy="396000"/>
          </a:xfrm>
        </p:grpSpPr>
        <p:sp>
          <p:nvSpPr>
            <p:cNvPr id="46" name=""/>
            <p:cNvSpPr/>
            <p:nvPr/>
          </p:nvSpPr>
          <p:spPr>
            <a:xfrm>
              <a:off x="4267080" y="5516640"/>
              <a:ext cx="2286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Book Antiqua"/>
                  <a:ea typeface="신그래픽"/>
                </a:rPr>
                <a:t>TEL:02) 861-1175  , FAX:02) 861-117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4324320" y="5321160"/>
              <a:ext cx="1523880" cy="1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돋움체"/>
                </a:rPr>
                <a:t>아이콤정보시스템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돋움체"/>
                <a:ea typeface="돋움체"/>
              </a:endParaRPr>
            </a:p>
          </p:txBody>
        </p:sp>
      </p:grpSp>
      <p:pic>
        <p:nvPicPr>
          <p:cNvPr id="48" name="PDF417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22096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040" y="628560"/>
            <a:ext cx="9220320" cy="563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ff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914400" y="4600440"/>
            <a:ext cx="2666880" cy="7066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191120" y="1600200"/>
            <a:ext cx="666720" cy="695160"/>
            <a:chOff x="4191120" y="1600200"/>
            <a:chExt cx="666720" cy="695160"/>
          </a:xfrm>
        </p:grpSpPr>
        <p:sp>
          <p:nvSpPr>
            <p:cNvPr id="52" name=""/>
            <p:cNvSpPr/>
            <p:nvPr/>
          </p:nvSpPr>
          <p:spPr>
            <a:xfrm>
              <a:off x="4349880" y="1814400"/>
              <a:ext cx="507960" cy="398520"/>
            </a:xfrm>
            <a:custGeom>
              <a:avLst/>
              <a:gdLst/>
              <a:ahLst/>
              <a:rect l="l" t="t" r="r" b="b"/>
              <a:pathLst>
                <a:path w="320" h="251">
                  <a:moveTo>
                    <a:pt x="144" y="0"/>
                  </a:moveTo>
                  <a:lnTo>
                    <a:pt x="0" y="85"/>
                  </a:lnTo>
                  <a:lnTo>
                    <a:pt x="0" y="159"/>
                  </a:lnTo>
                  <a:lnTo>
                    <a:pt x="173" y="250"/>
                  </a:lnTo>
                  <a:lnTo>
                    <a:pt x="319" y="165"/>
                  </a:lnTo>
                  <a:lnTo>
                    <a:pt x="319" y="90"/>
                  </a:lnTo>
                  <a:lnTo>
                    <a:pt x="144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27800" y="1959120"/>
              <a:ext cx="230040" cy="253800"/>
            </a:xfrm>
            <a:custGeom>
              <a:avLst/>
              <a:gdLst/>
              <a:ahLst/>
              <a:rect l="l" t="t" r="r" b="b"/>
              <a:pathLst>
                <a:path w="145" h="160">
                  <a:moveTo>
                    <a:pt x="144" y="0"/>
                  </a:moveTo>
                  <a:lnTo>
                    <a:pt x="144" y="74"/>
                  </a:lnTo>
                  <a:lnTo>
                    <a:pt x="0" y="159"/>
                  </a:lnTo>
                  <a:lnTo>
                    <a:pt x="0" y="85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9880" y="1814400"/>
              <a:ext cx="507960" cy="281160"/>
            </a:xfrm>
            <a:custGeom>
              <a:avLst/>
              <a:gdLst/>
              <a:ahLst/>
              <a:rect l="l" t="t" r="r" b="b"/>
              <a:pathLst>
                <a:path w="320" h="177">
                  <a:moveTo>
                    <a:pt x="319" y="90"/>
                  </a:moveTo>
                  <a:lnTo>
                    <a:pt x="144" y="0"/>
                  </a:lnTo>
                  <a:lnTo>
                    <a:pt x="0" y="85"/>
                  </a:lnTo>
                  <a:lnTo>
                    <a:pt x="173" y="176"/>
                  </a:lnTo>
                  <a:lnTo>
                    <a:pt x="319" y="9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53120" y="1600200"/>
              <a:ext cx="503280" cy="450720"/>
            </a:xfrm>
            <a:custGeom>
              <a:avLst/>
              <a:gdLst/>
              <a:ahLst/>
              <a:rect l="l" t="t" r="r" b="b"/>
              <a:pathLst>
                <a:path w="317" h="284">
                  <a:moveTo>
                    <a:pt x="176" y="0"/>
                  </a:moveTo>
                  <a:lnTo>
                    <a:pt x="48" y="15"/>
                  </a:lnTo>
                  <a:lnTo>
                    <a:pt x="0" y="42"/>
                  </a:lnTo>
                  <a:lnTo>
                    <a:pt x="0" y="197"/>
                  </a:lnTo>
                  <a:lnTo>
                    <a:pt x="167" y="283"/>
                  </a:lnTo>
                  <a:lnTo>
                    <a:pt x="217" y="256"/>
                  </a:lnTo>
                  <a:lnTo>
                    <a:pt x="316" y="195"/>
                  </a:lnTo>
                  <a:lnTo>
                    <a:pt x="316" y="71"/>
                  </a:lnTo>
                  <a:lnTo>
                    <a:pt x="176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89480" y="1720800"/>
              <a:ext cx="196920" cy="276120"/>
            </a:xfrm>
            <a:custGeom>
              <a:avLst/>
              <a:gdLst/>
              <a:ahLst/>
              <a:rect l="l" t="t" r="r" b="b"/>
              <a:pathLst>
                <a:path w="124" h="174">
                  <a:moveTo>
                    <a:pt x="123" y="63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23" y="173"/>
                  </a:lnTo>
                  <a:lnTo>
                    <a:pt x="123" y="63"/>
                  </a:lnTo>
                </a:path>
              </a:pathLst>
            </a:custGeom>
            <a:gradFill rotWithShape="0">
              <a:gsLst>
                <a:gs pos="0">
                  <a:srgbClr val="00423b"/>
                </a:gs>
                <a:gs pos="100000">
                  <a:srgbClr val="00dfc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1800" y="1760400"/>
              <a:ext cx="27000" cy="8568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6" y="2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16" y="53"/>
                  </a:lnTo>
                  <a:lnTo>
                    <a:pt x="16" y="2"/>
                  </a:lnTo>
                </a:path>
              </a:pathLst>
            </a:custGeom>
            <a:solidFill>
              <a:srgbClr val="d8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34120" y="1771560"/>
              <a:ext cx="27000" cy="8748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16" y="2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16" y="54"/>
                  </a:lnTo>
                  <a:lnTo>
                    <a:pt x="16" y="2"/>
                  </a:lnTo>
                </a:path>
              </a:pathLst>
            </a:custGeom>
            <a:solidFill>
              <a:srgbClr val="d8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53120" y="1623960"/>
              <a:ext cx="345960" cy="179280"/>
            </a:xfrm>
            <a:custGeom>
              <a:avLst/>
              <a:gdLst/>
              <a:ahLst/>
              <a:rect l="l" t="t" r="r" b="b"/>
              <a:pathLst>
                <a:path w="218" h="113">
                  <a:moveTo>
                    <a:pt x="168" y="112"/>
                  </a:moveTo>
                  <a:lnTo>
                    <a:pt x="0" y="26"/>
                  </a:lnTo>
                  <a:lnTo>
                    <a:pt x="48" y="0"/>
                  </a:lnTo>
                  <a:lnTo>
                    <a:pt x="217" y="85"/>
                  </a:lnTo>
                  <a:lnTo>
                    <a:pt x="168" y="112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97640" y="1712880"/>
              <a:ext cx="158760" cy="29376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0" y="30"/>
                  </a:moveTo>
                  <a:lnTo>
                    <a:pt x="99" y="0"/>
                  </a:lnTo>
                  <a:lnTo>
                    <a:pt x="99" y="124"/>
                  </a:lnTo>
                  <a:lnTo>
                    <a:pt x="0" y="184"/>
                  </a:lnTo>
                  <a:lnTo>
                    <a:pt x="0" y="3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2028960"/>
              <a:ext cx="403200" cy="266400"/>
            </a:xfrm>
            <a:custGeom>
              <a:avLst/>
              <a:gdLst/>
              <a:ahLst/>
              <a:rect l="l" t="t" r="r" b="b"/>
              <a:pathLst>
                <a:path w="254" h="168">
                  <a:moveTo>
                    <a:pt x="71" y="0"/>
                  </a:moveTo>
                  <a:lnTo>
                    <a:pt x="0" y="54"/>
                  </a:lnTo>
                  <a:lnTo>
                    <a:pt x="0" y="75"/>
                  </a:lnTo>
                  <a:lnTo>
                    <a:pt x="180" y="167"/>
                  </a:lnTo>
                  <a:lnTo>
                    <a:pt x="253" y="128"/>
                  </a:lnTo>
                  <a:lnTo>
                    <a:pt x="253" y="91"/>
                  </a:lnTo>
                  <a:lnTo>
                    <a:pt x="71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8400" y="2173320"/>
              <a:ext cx="115920" cy="12204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4"/>
                  </a:moveTo>
                  <a:lnTo>
                    <a:pt x="72" y="0"/>
                  </a:lnTo>
                  <a:lnTo>
                    <a:pt x="72" y="38"/>
                  </a:lnTo>
                  <a:lnTo>
                    <a:pt x="0" y="76"/>
                  </a:lnTo>
                  <a:lnTo>
                    <a:pt x="0" y="54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1120" y="2028960"/>
              <a:ext cx="403200" cy="231480"/>
            </a:xfrm>
            <a:custGeom>
              <a:avLst/>
              <a:gdLst/>
              <a:ahLst/>
              <a:rect l="l" t="t" r="r" b="b"/>
              <a:pathLst>
                <a:path w="254" h="146">
                  <a:moveTo>
                    <a:pt x="180" y="145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253" y="90"/>
                  </a:lnTo>
                  <a:lnTo>
                    <a:pt x="180" y="145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35880" y="1676520"/>
            <a:ext cx="4183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신그래픽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신그래픽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762120"/>
            <a:ext cx="1676520" cy="457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Book Antiqua"/>
                <a:ea typeface="신그래픽"/>
              </a:rPr>
              <a:t> </a:t>
            </a:r>
            <a:r>
              <a:rPr b="1" lang="zh-CN" sz="1600" spc="-1" strike="noStrike">
                <a:solidFill>
                  <a:srgbClr val="000066"/>
                </a:solidFill>
                <a:latin typeface="Book Antiqua"/>
                <a:ea typeface="신그래픽"/>
              </a:rPr>
              <a:t>시스템 구성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L-408" descr=""/>
          <p:cNvPicPr/>
          <p:nvPr/>
        </p:nvPicPr>
        <p:blipFill>
          <a:blip r:embed="rId2"/>
          <a:stretch/>
        </p:blipFill>
        <p:spPr>
          <a:xfrm>
            <a:off x="2387520" y="1838160"/>
            <a:ext cx="685800" cy="501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73320" y="20667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5360" y="2066760"/>
            <a:ext cx="136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BARCODE PR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432160"/>
            <a:ext cx="241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차량에 부여된 번호인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-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동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호수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성명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전화번호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차량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    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를 코드체계하여 바코드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335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267080"/>
            <a:ext cx="2412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차량에 바코드 라벨 부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819520" y="2438280"/>
            <a:ext cx="167616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83160" y="3438360"/>
            <a:ext cx="2412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등록정보 저장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추가시 재저장</a:t>
            </a:r>
            <a:r>
              <a:rPr b="1" lang="ko-KR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8006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548640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차량에 바코드 라벨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0" y="2743200"/>
            <a:ext cx="38088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7086600" y="3657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93040" y="2743200"/>
            <a:ext cx="241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동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호수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성명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전화번호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,</a:t>
            </a: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차량번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Book Antiqua"/>
                <a:ea typeface="신그래픽"/>
              </a:rPr>
              <a:t>조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08660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981080"/>
            <a:ext cx="12193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98800" y="2028960"/>
            <a:ext cx="797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신그래픽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Book Antiqua"/>
                <a:ea typeface="신그래픽"/>
              </a:rPr>
              <a:t>확인 및 통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2" descr=""/>
          <p:cNvPicPr/>
          <p:nvPr/>
        </p:nvPicPr>
        <p:blipFill>
          <a:blip r:embed="rId4"/>
          <a:stretch/>
        </p:blipFill>
        <p:spPr>
          <a:xfrm>
            <a:off x="5791320" y="4495680"/>
            <a:ext cx="2666880" cy="70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4762440"/>
            <a:ext cx="304920" cy="571680"/>
          </a:xfrm>
          <a:custGeom>
            <a:avLst/>
            <a:gdLst>
              <a:gd name="textAreaLeft" fmla="*/ 109440 w 304920"/>
              <a:gd name="textAreaRight" fmla="*/ 195480 w 304920"/>
              <a:gd name="textAreaTop" fmla="*/ 205200 h 571680"/>
              <a:gd name="textAreaBottom" fmla="*/ 36648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91520" y="5257800"/>
            <a:ext cx="3808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458120" y="4762440"/>
            <a:ext cx="304920" cy="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DF417" descr=""/>
          <p:cNvPicPr/>
          <p:nvPr/>
        </p:nvPicPr>
        <p:blipFill>
          <a:blip r:embed="rId6"/>
          <a:stretch/>
        </p:blipFill>
        <p:spPr>
          <a:xfrm>
            <a:off x="2286000" y="2973240"/>
            <a:ext cx="990720" cy="303480"/>
          </a:xfrm>
          <a:prstGeom prst="rect">
            <a:avLst/>
          </a:prstGeom>
          <a:ln w="0">
            <a:noFill/>
          </a:ln>
        </p:spPr>
      </p:pic>
      <p:pic>
        <p:nvPicPr>
          <p:cNvPr id="87" name="PDF417" descr=""/>
          <p:cNvPicPr/>
          <p:nvPr/>
        </p:nvPicPr>
        <p:blipFill>
          <a:blip r:embed="rId7"/>
          <a:stretch/>
        </p:blipFill>
        <p:spPr>
          <a:xfrm>
            <a:off x="2362320" y="4495680"/>
            <a:ext cx="304560" cy="93960"/>
          </a:xfrm>
          <a:prstGeom prst="rect">
            <a:avLst/>
          </a:prstGeom>
          <a:ln w="0">
            <a:noFill/>
          </a:ln>
        </p:spPr>
      </p:pic>
      <p:pic>
        <p:nvPicPr>
          <p:cNvPr id="88" name="PDF417" descr=""/>
          <p:cNvPicPr/>
          <p:nvPr/>
        </p:nvPicPr>
        <p:blipFill>
          <a:blip r:embed="rId8"/>
          <a:stretch/>
        </p:blipFill>
        <p:spPr>
          <a:xfrm>
            <a:off x="7477200" y="4781520"/>
            <a:ext cx="304560" cy="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8763120" cy="563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ff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2720" y="1523880"/>
            <a:ext cx="8337600" cy="45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c3e8"/>
              </a:gs>
              <a:gs pos="50000">
                <a:srgbClr val="ffffff"/>
              </a:gs>
              <a:gs pos="100000">
                <a:srgbClr val="b6c3e8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752480"/>
            <a:ext cx="732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imensions: 7 in. L x 3 5/8 in. W x 1 in. H (177.8 mm x 92 mm x 25.4 mm) 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구성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본체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충전기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바코드 스케너 일체형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Weight:11.8 oz / 330 gm (wireless version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rop Specification: 4 ft / 1.2 m to con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CPU: NEC Vr4181 (M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Operating System: Windows CE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Memory (RAM/ROM): 16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isplay: High contrast, anti-reflective monochrome LCD display;1/4 VGA resolution (240 x 320 pix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Key in &amp; Touch Screen (PEN Base To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Network: Symbol Spectrum24 IEEE 802.11 airwaves standard based,TCP-IP,TN5250,TN AN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ata Rate: 1~2 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ange: Open space: up to 1000 ft./303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Frequency Range: Country dependent, typically 2.4 to 2.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2700web_101x250" descr=""/>
          <p:cNvPicPr/>
          <p:nvPr/>
        </p:nvPicPr>
        <p:blipFill>
          <a:blip r:embed="rId1"/>
          <a:stretch/>
        </p:blipFill>
        <p:spPr>
          <a:xfrm>
            <a:off x="7696080" y="4495680"/>
            <a:ext cx="730440" cy="121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38080" y="685800"/>
            <a:ext cx="1219320" cy="457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Book Antiqua"/>
                <a:ea typeface="신그래픽"/>
              </a:rPr>
              <a:t>장비사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7T05:07:14Z</dcterms:created>
  <dc:creator>강성철</dc:creator>
  <dc:description/>
  <dc:language>en-US</dc:language>
  <cp:lastModifiedBy>강성철</cp:lastModifiedBy>
  <cp:lastPrinted>2000-03-28T13:57:43Z</cp:lastPrinted>
  <dcterms:modified xsi:type="dcterms:W3CDTF">2000-08-30T16:55:49Z</dcterms:modified>
  <cp:revision>64</cp:revision>
  <dc:subject/>
  <dc:title>아파트차량관리</dc:title>
</cp:coreProperties>
</file>